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33D-B4EB-43A3-B954-646C31B8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850-0C98-4EFE-977B-47062B3E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6C4-B2BF-4AC9-93B6-6A831240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B1E-9999-4664-81B2-A0363185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D95-A9EC-4FBE-81F5-D79193F2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6E1-F7A0-4A40-BF4D-784C44CA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295-AD3A-4773-8329-0A39E18A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CAA-2A94-4F5A-9BD6-9412966B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468-D1B6-46A7-AE0A-A992D234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476-1C92-40C4-86D8-E97715CD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BD8-D300-4F91-A5DF-46FB78F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522-E75A-4FA2-9F1E-642F1BA3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14F-8A8F-48A3-8A15-672A701818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dventurestage.org/filebin/pdf/Why%20Children%5C&apos;s%20Theater%20Matters-Education.com.pdf" TargetMode="External"/><Relationship Id="rId2" Type="http://schemas.openxmlformats.org/officeDocument/2006/relationships/hyperlink" Target="http://www.educationupdate.com/archives/2004/apr04/issue/car_nixon.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680" y="5409720"/>
            <a:ext cx="243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By Kirsten Porcelli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ED 702.22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Dr. O’Conner-Petruso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Why Theater &amp; Music Matt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tudy of how the integration of Theater and Music in the classroom shows an increase in students’ attention sp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6762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175248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11430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1447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8288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3880" y="3581280"/>
            <a:ext cx="1285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52280" y="3581280"/>
            <a:ext cx="13716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-6094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600"/>
            <a:ext cx="32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Table Of Contents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Century Schoolbook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Statement of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Literature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Research Hypoth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0120" y="1981080"/>
            <a:ext cx="1523880" cy="2819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0"/>
            <a:ext cx="762012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Statement of Problem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Lack of theater and music in schools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entury Schoolbook"/>
                <a:hlinkClick r:id="rId1"/>
              </a:rPr>
              <a:t>Why Children’s Theater Ma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Howard Gardner’s Multiple intellig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Student teaching, Broadway Babies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dget cutting in schools.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entury Schoolbook"/>
                <a:hlinkClick r:id="rId2"/>
              </a:rPr>
              <a:t>Interview with Cynthia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97180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32004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114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Positive Impact of music &amp; theater on soci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cognitive &amp; acade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Mason, Steedly &amp; Thormann (n.d); Zastrow (2004); Catterall (2002); Betts, Fisher &amp; Hicks (n.d), Wood (2006,200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Increase of Expression &amp;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Crehan (n.d); MENC: The National Association for Music Education (1991); Humphreys (2007); Vermont Arts Council (2006)</a:t>
            </a:r>
            <a:r>
              <a:rPr b="1" lang="en-US" sz="2400" spc="-1" strike="noStrike">
                <a:solidFill>
                  <a:srgbClr val="6633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514600" cy="140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Music increases the attention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Stanford University Medical Center (2007); Wood (2006, 2007); Singh (19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429000"/>
            <a:ext cx="8001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Research/studies on the benefits of arts   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Burnaford, Brown, Doherty &amp; McLaug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(2007);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Betts, Fisher &amp; Hicks (n.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Research Hypothesi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entury Schoolbook"/>
              </a:rPr>
              <a:t>By integrating music and theater into a first grade classroom at the P.S. 152 annex in Brooklyn, NY, their attention span throughout the day will increase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08200" y="5105520"/>
            <a:ext cx="211320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56080" y="5105520"/>
            <a:ext cx="13748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551560" y="5105520"/>
            <a:ext cx="1744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940440" y="5105520"/>
            <a:ext cx="2203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384200" y="5105520"/>
            <a:ext cx="15494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0" y="5105520"/>
            <a:ext cx="16527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0:03Z</dcterms:created>
  <dc:creator>The Punishers</dc:creator>
  <dc:description/>
  <dc:language>en-US</dc:language>
  <cp:lastModifiedBy>The Punishers</cp:lastModifiedBy>
  <dcterms:modified xsi:type="dcterms:W3CDTF">2008-10-13T20:36:36Z</dcterms:modified>
  <cp:revision>32</cp:revision>
  <dc:subject/>
  <dc:title>By Kirsten Porcelli ED 702.22 Fall 2008 Dr. O’Connor-Petruso</dc:title>
</cp:coreProperties>
</file>